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3lian.com/e/ViewImg/index.html?url=http://img1.3lian.com/img2011/10/84/0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图片 3" descr=""/>
          <p:cNvPicPr/>
          <p:nvPr/>
        </p:nvPicPr>
        <p:blipFill>
          <a:blip r:embed="rId1"/>
          <a:stretch/>
        </p:blipFill>
        <p:spPr>
          <a:xfrm>
            <a:off x="2513160" y="220500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41" name="矩形 4"/>
          <p:cNvSpPr/>
          <p:nvPr/>
        </p:nvSpPr>
        <p:spPr>
          <a:xfrm>
            <a:off x="2436840" y="638280"/>
            <a:ext cx="472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Calibri"/>
              </a:rPr>
              <a:t>ie   üe  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1536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ject 2" descr=""/>
          <p:cNvPicPr/>
          <p:nvPr/>
        </p:nvPicPr>
        <p:blipFill>
          <a:blip r:embed="rId1"/>
          <a:stretch/>
        </p:blipFill>
        <p:spPr>
          <a:xfrm>
            <a:off x="0" y="2755800"/>
            <a:ext cx="9144000" cy="355464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3"/>
          <p:cNvGrpSpPr/>
          <p:nvPr/>
        </p:nvGrpSpPr>
        <p:grpSpPr>
          <a:xfrm>
            <a:off x="2720160" y="3843360"/>
            <a:ext cx="3148920" cy="1434960"/>
            <a:chOff x="2720160" y="3843360"/>
            <a:chExt cx="3148920" cy="1434960"/>
          </a:xfrm>
        </p:grpSpPr>
        <p:sp>
          <p:nvSpPr>
            <p:cNvPr id="189" name="Text Box 4"/>
            <p:cNvSpPr/>
            <p:nvPr/>
          </p:nvSpPr>
          <p:spPr>
            <a:xfrm>
              <a:off x="2721240" y="3843360"/>
              <a:ext cx="424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3276720" y="4058640"/>
              <a:ext cx="431640" cy="128880"/>
              <a:chOff x="3276720" y="4058640"/>
              <a:chExt cx="431640" cy="128880"/>
            </a:xfrm>
          </p:grpSpPr>
          <p:sp>
            <p:nvSpPr>
              <p:cNvPr id="191" name="Line 5"/>
              <p:cNvSpPr/>
              <p:nvPr/>
            </p:nvSpPr>
            <p:spPr>
              <a:xfrm>
                <a:off x="3276720" y="4058640"/>
                <a:ext cx="431640" cy="12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"/>
              <p:cNvSpPr txBox="1"/>
              <p:nvPr/>
            </p:nvSpPr>
            <p:spPr>
              <a:xfrm>
                <a:off x="3276720" y="4058640"/>
                <a:ext cx="431640" cy="128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3" name="Text Box 6"/>
            <p:cNvSpPr/>
            <p:nvPr/>
          </p:nvSpPr>
          <p:spPr>
            <a:xfrm>
              <a:off x="2720160" y="4187880"/>
              <a:ext cx="45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Text Box 7"/>
            <p:cNvSpPr/>
            <p:nvPr/>
          </p:nvSpPr>
          <p:spPr>
            <a:xfrm>
              <a:off x="2726640" y="4532040"/>
              <a:ext cx="41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3132000" y="4403160"/>
              <a:ext cx="432000" cy="360"/>
              <a:chOff x="3132000" y="4403160"/>
              <a:chExt cx="432000" cy="360"/>
            </a:xfrm>
          </p:grpSpPr>
          <p:sp>
            <p:nvSpPr>
              <p:cNvPr id="196" name="Line 8"/>
              <p:cNvSpPr/>
              <p:nvPr/>
            </p:nvSpPr>
            <p:spPr>
              <a:xfrm>
                <a:off x="3132000" y="4403160"/>
                <a:ext cx="4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>
                <a:off x="3132000" y="4403160"/>
                <a:ext cx="4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3131640" y="4532040"/>
              <a:ext cx="360720" cy="215280"/>
              <a:chOff x="3131640" y="4532040"/>
              <a:chExt cx="360720" cy="215280"/>
            </a:xfrm>
          </p:grpSpPr>
          <p:sp>
            <p:nvSpPr>
              <p:cNvPr id="199" name="Line 9"/>
              <p:cNvSpPr/>
              <p:nvPr/>
            </p:nvSpPr>
            <p:spPr>
              <a:xfrm flipV="1">
                <a:off x="3132000" y="4532040"/>
                <a:ext cx="360360" cy="21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 rot="10800000">
                <a:off x="3131640" y="4532040"/>
                <a:ext cx="360360" cy="21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1" name="Text Box 10"/>
            <p:cNvSpPr/>
            <p:nvPr/>
          </p:nvSpPr>
          <p:spPr>
            <a:xfrm>
              <a:off x="3668760" y="4145040"/>
              <a:ext cx="709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ü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4211280" y="4100760"/>
              <a:ext cx="289440" cy="172440"/>
              <a:chOff x="4211280" y="4100760"/>
              <a:chExt cx="289440" cy="172440"/>
            </a:xfrm>
          </p:grpSpPr>
          <p:sp>
            <p:nvSpPr>
              <p:cNvPr id="203" name="Line 11"/>
              <p:cNvSpPr/>
              <p:nvPr/>
            </p:nvSpPr>
            <p:spPr>
              <a:xfrm flipV="1">
                <a:off x="4211640" y="4100760"/>
                <a:ext cx="289080" cy="17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"/>
              <p:cNvSpPr txBox="1"/>
              <p:nvPr/>
            </p:nvSpPr>
            <p:spPr>
              <a:xfrm rot="10800000">
                <a:off x="4211280" y="4100760"/>
                <a:ext cx="289080" cy="172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4284720" y="4403160"/>
              <a:ext cx="358920" cy="360"/>
              <a:chOff x="4284720" y="4403160"/>
              <a:chExt cx="358920" cy="360"/>
            </a:xfrm>
          </p:grpSpPr>
          <p:sp>
            <p:nvSpPr>
              <p:cNvPr id="206" name="Line 12"/>
              <p:cNvSpPr/>
              <p:nvPr/>
            </p:nvSpPr>
            <p:spPr>
              <a:xfrm>
                <a:off x="4284720" y="4403160"/>
                <a:ext cx="3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"/>
              <p:cNvSpPr txBox="1"/>
              <p:nvPr/>
            </p:nvSpPr>
            <p:spPr>
              <a:xfrm>
                <a:off x="4284720" y="4403160"/>
                <a:ext cx="358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4211640" y="4532040"/>
              <a:ext cx="360360" cy="171720"/>
              <a:chOff x="4211640" y="4532040"/>
              <a:chExt cx="360360" cy="171720"/>
            </a:xfrm>
          </p:grpSpPr>
          <p:sp>
            <p:nvSpPr>
              <p:cNvPr id="209" name="Line 13"/>
              <p:cNvSpPr/>
              <p:nvPr/>
            </p:nvSpPr>
            <p:spPr>
              <a:xfrm>
                <a:off x="4211640" y="4532040"/>
                <a:ext cx="36036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4211640" y="4532040"/>
                <a:ext cx="360360" cy="171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1" name="Text Box 14"/>
            <p:cNvSpPr/>
            <p:nvPr/>
          </p:nvSpPr>
          <p:spPr>
            <a:xfrm>
              <a:off x="4643640" y="3843360"/>
              <a:ext cx="122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ju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Text Box 15"/>
            <p:cNvSpPr/>
            <p:nvPr/>
          </p:nvSpPr>
          <p:spPr>
            <a:xfrm>
              <a:off x="4695120" y="4187880"/>
              <a:ext cx="982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qu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 Box 16"/>
            <p:cNvSpPr/>
            <p:nvPr/>
          </p:nvSpPr>
          <p:spPr>
            <a:xfrm>
              <a:off x="4774320" y="4574880"/>
              <a:ext cx="942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xu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Group 17"/>
          <p:cNvGrpSpPr/>
          <p:nvPr/>
        </p:nvGrpSpPr>
        <p:grpSpPr>
          <a:xfrm>
            <a:off x="2760840" y="981000"/>
            <a:ext cx="3455280" cy="1463400"/>
            <a:chOff x="2760840" y="981000"/>
            <a:chExt cx="3455280" cy="1463400"/>
          </a:xfrm>
        </p:grpSpPr>
        <p:sp>
          <p:nvSpPr>
            <p:cNvPr id="215" name="Text Box 18"/>
            <p:cNvSpPr/>
            <p:nvPr/>
          </p:nvSpPr>
          <p:spPr>
            <a:xfrm>
              <a:off x="2780640" y="981000"/>
              <a:ext cx="45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3389040" y="1204200"/>
              <a:ext cx="470520" cy="133920"/>
              <a:chOff x="3389040" y="1204200"/>
              <a:chExt cx="470520" cy="133920"/>
            </a:xfrm>
          </p:grpSpPr>
          <p:sp>
            <p:nvSpPr>
              <p:cNvPr id="217" name="Line 19"/>
              <p:cNvSpPr/>
              <p:nvPr/>
            </p:nvSpPr>
            <p:spPr>
              <a:xfrm>
                <a:off x="3389040" y="1204200"/>
                <a:ext cx="470520" cy="13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>
                <a:off x="3389040" y="1204200"/>
                <a:ext cx="470520" cy="133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9" name="Text Box 20"/>
            <p:cNvSpPr/>
            <p:nvPr/>
          </p:nvSpPr>
          <p:spPr>
            <a:xfrm>
              <a:off x="2760840" y="1319760"/>
              <a:ext cx="1832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Text Box 21"/>
            <p:cNvSpPr/>
            <p:nvPr/>
          </p:nvSpPr>
          <p:spPr>
            <a:xfrm>
              <a:off x="2770560" y="1695600"/>
              <a:ext cx="30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3231360" y="1562040"/>
              <a:ext cx="470880" cy="360"/>
              <a:chOff x="3231360" y="1562040"/>
              <a:chExt cx="470880" cy="360"/>
            </a:xfrm>
          </p:grpSpPr>
          <p:sp>
            <p:nvSpPr>
              <p:cNvPr id="222" name="Line 22"/>
              <p:cNvSpPr/>
              <p:nvPr/>
            </p:nvSpPr>
            <p:spPr>
              <a:xfrm>
                <a:off x="3231360" y="1562040"/>
                <a:ext cx="47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"/>
              <p:cNvSpPr txBox="1"/>
              <p:nvPr/>
            </p:nvSpPr>
            <p:spPr>
              <a:xfrm>
                <a:off x="3231360" y="1562040"/>
                <a:ext cx="47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3231000" y="1695600"/>
              <a:ext cx="393120" cy="223200"/>
              <a:chOff x="3231000" y="1695600"/>
              <a:chExt cx="393120" cy="223200"/>
            </a:xfrm>
          </p:grpSpPr>
          <p:sp>
            <p:nvSpPr>
              <p:cNvPr id="225" name="Line 23"/>
              <p:cNvSpPr/>
              <p:nvPr/>
            </p:nvSpPr>
            <p:spPr>
              <a:xfrm flipV="1">
                <a:off x="3231360" y="1695600"/>
                <a:ext cx="392760" cy="22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"/>
              <p:cNvSpPr txBox="1"/>
              <p:nvPr/>
            </p:nvSpPr>
            <p:spPr>
              <a:xfrm rot="10800000">
                <a:off x="3231000" y="1695600"/>
                <a:ext cx="392760" cy="22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7" name="Text Box 24"/>
            <p:cNvSpPr/>
            <p:nvPr/>
          </p:nvSpPr>
          <p:spPr>
            <a:xfrm>
              <a:off x="3813120" y="1293840"/>
              <a:ext cx="709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ü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4408560" y="1248480"/>
              <a:ext cx="315360" cy="179280"/>
              <a:chOff x="4408560" y="1248480"/>
              <a:chExt cx="315360" cy="179280"/>
            </a:xfrm>
          </p:grpSpPr>
          <p:sp>
            <p:nvSpPr>
              <p:cNvPr id="229" name="Line 25"/>
              <p:cNvSpPr/>
              <p:nvPr/>
            </p:nvSpPr>
            <p:spPr>
              <a:xfrm flipV="1">
                <a:off x="4408920" y="1248480"/>
                <a:ext cx="315000" cy="1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 rot="10800000">
                <a:off x="4408560" y="1248480"/>
                <a:ext cx="315000" cy="17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488480" y="1562040"/>
              <a:ext cx="391320" cy="360"/>
              <a:chOff x="4488480" y="1562040"/>
              <a:chExt cx="391320" cy="360"/>
            </a:xfrm>
          </p:grpSpPr>
          <p:sp>
            <p:nvSpPr>
              <p:cNvPr id="232" name="Line 26"/>
              <p:cNvSpPr/>
              <p:nvPr/>
            </p:nvSpPr>
            <p:spPr>
              <a:xfrm>
                <a:off x="4488480" y="1562040"/>
                <a:ext cx="39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"/>
              <p:cNvSpPr txBox="1"/>
              <p:nvPr/>
            </p:nvSpPr>
            <p:spPr>
              <a:xfrm>
                <a:off x="4488480" y="1562040"/>
                <a:ext cx="391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408920" y="1695600"/>
              <a:ext cx="392760" cy="178200"/>
              <a:chOff x="4408920" y="1695600"/>
              <a:chExt cx="392760" cy="178200"/>
            </a:xfrm>
          </p:grpSpPr>
          <p:sp>
            <p:nvSpPr>
              <p:cNvPr id="235" name="Line 27"/>
              <p:cNvSpPr/>
              <p:nvPr/>
            </p:nvSpPr>
            <p:spPr>
              <a:xfrm>
                <a:off x="4408920" y="1695600"/>
                <a:ext cx="392760" cy="17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"/>
              <p:cNvSpPr txBox="1"/>
              <p:nvPr/>
            </p:nvSpPr>
            <p:spPr>
              <a:xfrm>
                <a:off x="4408920" y="1695600"/>
                <a:ext cx="392760" cy="178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7" name="Text Box 28"/>
            <p:cNvSpPr/>
            <p:nvPr/>
          </p:nvSpPr>
          <p:spPr>
            <a:xfrm>
              <a:off x="4879800" y="981000"/>
              <a:ext cx="1336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nü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Text Box 29"/>
            <p:cNvSpPr/>
            <p:nvPr/>
          </p:nvSpPr>
          <p:spPr>
            <a:xfrm>
              <a:off x="4879800" y="1319760"/>
              <a:ext cx="1832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Text Box 30"/>
            <p:cNvSpPr/>
            <p:nvPr/>
          </p:nvSpPr>
          <p:spPr>
            <a:xfrm>
              <a:off x="5000760" y="1740960"/>
              <a:ext cx="83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lü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AutoShape 31"/>
          <p:cNvSpPr/>
          <p:nvPr/>
        </p:nvSpPr>
        <p:spPr>
          <a:xfrm>
            <a:off x="5927760" y="1198440"/>
            <a:ext cx="3384360" cy="646200"/>
          </a:xfrm>
          <a:prstGeom prst="wedgeEllipseCallout">
            <a:avLst>
              <a:gd name="adj1" fmla="val -38976"/>
              <a:gd name="adj2" fmla="val 6073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32"/>
          <p:cNvSpPr/>
          <p:nvPr/>
        </p:nvSpPr>
        <p:spPr>
          <a:xfrm>
            <a:off x="6013440" y="1197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你发现了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同侧圆角矩形 3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42f8e0b47c1a1b608ad4b2e9"/>
          <p:cNvPicPr/>
          <p:nvPr/>
        </p:nvPicPr>
        <p:blipFill>
          <a:blip r:embed="rId1"/>
          <a:stretch/>
        </p:blipFill>
        <p:spPr>
          <a:xfrm>
            <a:off x="181080" y="982800"/>
            <a:ext cx="8783640" cy="5373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W020080825403882429501"/>
          <p:cNvPicPr/>
          <p:nvPr/>
        </p:nvPicPr>
        <p:blipFill>
          <a:blip r:embed="rId2"/>
          <a:stretch/>
        </p:blipFill>
        <p:spPr>
          <a:xfrm>
            <a:off x="344520" y="1552680"/>
            <a:ext cx="3514680" cy="310500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246" name="Text Box 4"/>
          <p:cNvSpPr/>
          <p:nvPr/>
        </p:nvSpPr>
        <p:spPr>
          <a:xfrm>
            <a:off x="4068720" y="3286080"/>
            <a:ext cx="4824360" cy="1699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ü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ü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礼貌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见了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qx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脱帽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5688000" y="1962000"/>
            <a:ext cx="259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zh-CN" sz="5400" spc="-1" strike="noStrike">
                <a:solidFill>
                  <a:srgbClr val="ff0000"/>
                </a:solidFill>
                <a:latin typeface="Calibri"/>
              </a:rPr>
              <a:t>uè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</a:rPr>
              <a:t>孔 雀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3060720" y="4962600"/>
            <a:ext cx="494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Calibri"/>
              </a:rPr>
              <a:t>q--üè---què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4" descr="MP900227813[1]"/>
          <p:cNvPicPr/>
          <p:nvPr/>
        </p:nvPicPr>
        <p:blipFill>
          <a:blip r:embed="rId1"/>
          <a:stretch/>
        </p:blipFill>
        <p:spPr>
          <a:xfrm>
            <a:off x="468360" y="1054080"/>
            <a:ext cx="4284720" cy="3716280"/>
          </a:xfrm>
          <a:prstGeom prst="rect">
            <a:avLst/>
          </a:prstGeom>
          <a:ln w="0">
            <a:noFill/>
          </a:ln>
        </p:spPr>
      </p:pic>
      <p:sp>
        <p:nvSpPr>
          <p:cNvPr id="252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611280" y="1527120"/>
            <a:ext cx="8093160" cy="4651560"/>
          </a:xfrm>
          <a:prstGeom prst="rect">
            <a:avLst/>
          </a:prstGeom>
          <a:ln w="0">
            <a:noFill/>
          </a:ln>
        </p:spPr>
      </p:pic>
      <p:sp>
        <p:nvSpPr>
          <p:cNvPr id="255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20067201254429180"/>
          <p:cNvPicPr/>
          <p:nvPr/>
        </p:nvPicPr>
        <p:blipFill>
          <a:blip r:embed="rId1"/>
          <a:stretch/>
        </p:blipFill>
        <p:spPr>
          <a:xfrm>
            <a:off x="487440" y="1149480"/>
            <a:ext cx="3960720" cy="5182920"/>
          </a:xfrm>
          <a:prstGeom prst="rect">
            <a:avLst/>
          </a:prstGeom>
          <a:ln w="0">
            <a:noFill/>
          </a:ln>
        </p:spPr>
      </p:pic>
      <p:grpSp>
        <p:nvGrpSpPr>
          <p:cNvPr id="258" name="Group 3"/>
          <p:cNvGrpSpPr/>
          <p:nvPr/>
        </p:nvGrpSpPr>
        <p:grpSpPr>
          <a:xfrm>
            <a:off x="5435640" y="1946160"/>
            <a:ext cx="3529080" cy="3514320"/>
            <a:chOff x="5435640" y="1946160"/>
            <a:chExt cx="3529080" cy="3514320"/>
          </a:xfrm>
        </p:grpSpPr>
        <p:grpSp>
          <p:nvGrpSpPr>
            <p:cNvPr id="259" name=""/>
            <p:cNvGrpSpPr/>
            <p:nvPr/>
          </p:nvGrpSpPr>
          <p:grpSpPr>
            <a:xfrm>
              <a:off x="5435640" y="4263840"/>
              <a:ext cx="3456000" cy="360"/>
              <a:chOff x="5435640" y="4263840"/>
              <a:chExt cx="3456000" cy="360"/>
            </a:xfrm>
          </p:grpSpPr>
          <p:sp>
            <p:nvSpPr>
              <p:cNvPr id="260" name="Line 4"/>
              <p:cNvSpPr/>
              <p:nvPr/>
            </p:nvSpPr>
            <p:spPr>
              <a:xfrm>
                <a:off x="5435640" y="4263840"/>
                <a:ext cx="3456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5435640" y="4263840"/>
                <a:ext cx="345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2" name="Group 5"/>
            <p:cNvGrpSpPr/>
            <p:nvPr/>
          </p:nvGrpSpPr>
          <p:grpSpPr>
            <a:xfrm>
              <a:off x="5435640" y="1946160"/>
              <a:ext cx="3529080" cy="3514320"/>
              <a:chOff x="5435640" y="1946160"/>
              <a:chExt cx="3529080" cy="351432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5435640" y="3056400"/>
                <a:ext cx="3456000" cy="360"/>
                <a:chOff x="5435640" y="3056400"/>
                <a:chExt cx="3456000" cy="360"/>
              </a:xfrm>
            </p:grpSpPr>
            <p:sp>
              <p:nvSpPr>
                <p:cNvPr id="264" name="Line 6"/>
                <p:cNvSpPr/>
                <p:nvPr/>
              </p:nvSpPr>
              <p:spPr>
                <a:xfrm>
                  <a:off x="5435640" y="3056400"/>
                  <a:ext cx="345600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5" name=""/>
                <p:cNvSpPr txBox="1"/>
                <p:nvPr/>
              </p:nvSpPr>
              <p:spPr>
                <a:xfrm>
                  <a:off x="5435640" y="3056400"/>
                  <a:ext cx="3456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5435640" y="5411520"/>
                <a:ext cx="3456000" cy="360"/>
                <a:chOff x="5435640" y="5411520"/>
                <a:chExt cx="3456000" cy="360"/>
              </a:xfrm>
            </p:grpSpPr>
            <p:sp>
              <p:nvSpPr>
                <p:cNvPr id="267" name="Line 7"/>
                <p:cNvSpPr/>
                <p:nvPr/>
              </p:nvSpPr>
              <p:spPr>
                <a:xfrm>
                  <a:off x="5435640" y="5411520"/>
                  <a:ext cx="345600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8" name=""/>
                <p:cNvSpPr txBox="1"/>
                <p:nvPr/>
              </p:nvSpPr>
              <p:spPr>
                <a:xfrm>
                  <a:off x="5435640" y="5411520"/>
                  <a:ext cx="3456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5435640" y="1969920"/>
                <a:ext cx="3529080" cy="360"/>
                <a:chOff x="5435640" y="1969920"/>
                <a:chExt cx="3529080" cy="360"/>
              </a:xfrm>
            </p:grpSpPr>
            <p:sp>
              <p:nvSpPr>
                <p:cNvPr id="270" name="Line 8"/>
                <p:cNvSpPr/>
                <p:nvPr/>
              </p:nvSpPr>
              <p:spPr>
                <a:xfrm>
                  <a:off x="5435640" y="1969920"/>
                  <a:ext cx="35290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" name=""/>
                <p:cNvSpPr txBox="1"/>
                <p:nvPr/>
              </p:nvSpPr>
              <p:spPr>
                <a:xfrm>
                  <a:off x="5435640" y="1969920"/>
                  <a:ext cx="3529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450040" y="1958040"/>
                <a:ext cx="360" cy="3502440"/>
                <a:chOff x="5450040" y="1958040"/>
                <a:chExt cx="360" cy="3502440"/>
              </a:xfrm>
            </p:grpSpPr>
            <p:sp>
              <p:nvSpPr>
                <p:cNvPr id="273" name="Line 9"/>
                <p:cNvSpPr/>
                <p:nvPr/>
              </p:nvSpPr>
              <p:spPr>
                <a:xfrm>
                  <a:off x="5450040" y="1958040"/>
                  <a:ext cx="0" cy="35024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4" name=""/>
                <p:cNvSpPr txBox="1"/>
                <p:nvPr/>
              </p:nvSpPr>
              <p:spPr>
                <a:xfrm>
                  <a:off x="5450040" y="1958040"/>
                  <a:ext cx="360" cy="350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8921880" y="1946160"/>
                <a:ext cx="360" cy="3502440"/>
                <a:chOff x="8921880" y="1946160"/>
                <a:chExt cx="360" cy="3502440"/>
              </a:xfrm>
            </p:grpSpPr>
            <p:sp>
              <p:nvSpPr>
                <p:cNvPr id="276" name="Line 10"/>
                <p:cNvSpPr/>
                <p:nvPr/>
              </p:nvSpPr>
              <p:spPr>
                <a:xfrm>
                  <a:off x="8921880" y="1946160"/>
                  <a:ext cx="0" cy="35024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7" name=""/>
                <p:cNvSpPr txBox="1"/>
                <p:nvPr/>
              </p:nvSpPr>
              <p:spPr>
                <a:xfrm>
                  <a:off x="8921880" y="1946160"/>
                  <a:ext cx="360" cy="350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278" name="Text Box 11"/>
          <p:cNvSpPr/>
          <p:nvPr/>
        </p:nvSpPr>
        <p:spPr>
          <a:xfrm>
            <a:off x="5724360" y="1930320"/>
            <a:ext cx="32418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400" spc="-1" strike="noStrike">
                <a:solidFill>
                  <a:srgbClr val="ff0000"/>
                </a:solidFill>
                <a:latin typeface="Calibri"/>
              </a:rPr>
              <a:t>er</a:t>
            </a:r>
            <a:endParaRPr b="0" lang="en-US" sz="20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3419640" y="5661000"/>
            <a:ext cx="57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两只耳朵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er    er    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同侧圆角矩形 1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28687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468360" y="3429000"/>
            <a:ext cx="230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ff0000"/>
                </a:solidFill>
                <a:latin typeface="Dotum"/>
                <a:ea typeface="Dotum"/>
              </a:rPr>
              <a:t>er</a:t>
            </a:r>
            <a:endParaRPr b="0" lang="en-US" sz="1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AutoShape 3"/>
          <p:cNvSpPr/>
          <p:nvPr/>
        </p:nvSpPr>
        <p:spPr>
          <a:xfrm>
            <a:off x="2844720" y="981000"/>
            <a:ext cx="6264360" cy="3816360"/>
          </a:xfrm>
          <a:prstGeom prst="wedgeEllipseCallout">
            <a:avLst>
              <a:gd name="adj1" fmla="val -61708"/>
              <a:gd name="adj2" fmla="val 39643"/>
            </a:avLst>
          </a:prstGeom>
          <a:solidFill>
            <a:srgbClr val="4f81bd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不是复韵母，我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特殊韵母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谢谢复韵母兄弟和我做朋友，我不再孤单了！和朋友在一起我真快乐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u=3532990476,1774320756&amp;fm=0&amp;gp=0"/>
          <p:cNvPicPr/>
          <p:nvPr/>
        </p:nvPicPr>
        <p:blipFill>
          <a:blip r:embed="rId1"/>
          <a:stretch/>
        </p:blipFill>
        <p:spPr>
          <a:xfrm>
            <a:off x="650880" y="1989000"/>
            <a:ext cx="4770360" cy="378936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5975280" y="234936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宋体"/>
              </a:rPr>
              <a:t>ér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5830920" y="3718080"/>
            <a:ext cx="30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宋体"/>
              </a:rPr>
              <a:t>儿 童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红太阳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4561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3"/>
          <p:cNvSpPr/>
          <p:nvPr/>
        </p:nvSpPr>
        <p:spPr>
          <a:xfrm>
            <a:off x="900000" y="1558800"/>
            <a:ext cx="518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椰树椰树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ie ie 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2987640" y="2349360"/>
            <a:ext cx="540072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月亮月亮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üe   üe   ü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932360" y="3357720"/>
            <a:ext cx="42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耳朵耳朵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er er 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同侧圆角矩形 5"/>
          <p:cNvSpPr/>
          <p:nvPr/>
        </p:nvSpPr>
        <p:spPr>
          <a:xfrm>
            <a:off x="506520" y="104472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直线连接符 21"/>
          <p:cNvSpPr/>
          <p:nvPr/>
        </p:nvSpPr>
        <p:spPr>
          <a:xfrm flipV="1">
            <a:off x="51120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cybk-0088"/>
          <p:cNvPicPr/>
          <p:nvPr/>
        </p:nvPicPr>
        <p:blipFill>
          <a:blip r:embed="rId1"/>
          <a:stretch/>
        </p:blipFill>
        <p:spPr>
          <a:xfrm>
            <a:off x="396720" y="1054080"/>
            <a:ext cx="8677440" cy="525636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3"/>
          <p:cNvSpPr/>
          <p:nvPr/>
        </p:nvSpPr>
        <p:spPr>
          <a:xfrm>
            <a:off x="2556000" y="1701720"/>
            <a:ext cx="41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Calibri"/>
              </a:rPr>
              <a:t>月儿</a:t>
            </a:r>
            <a:r>
              <a:rPr b="0" lang="zh-CN" sz="6600" spc="-1" strike="noStrike">
                <a:solidFill>
                  <a:srgbClr val="000000"/>
                </a:solidFill>
                <a:latin typeface="Calibri"/>
              </a:rPr>
              <a:t>弯弯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2124000" y="3141720"/>
            <a:ext cx="590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月儿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弯弯挂蓝天，小溪弯弯出青山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大河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弯弯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流入海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街道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弯弯到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校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园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900000" y="5300640"/>
            <a:ext cx="260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世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468360" y="184644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队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4429080" y="909720"/>
            <a:ext cx="43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bái xu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4500720" y="1917720"/>
            <a:ext cx="38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白雪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395280" y="2709720"/>
            <a:ext cx="20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tiě  lù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598320" y="3429000"/>
            <a:ext cx="238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铁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671400" y="4292640"/>
            <a:ext cx="25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Shì ji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4583160" y="3429000"/>
            <a:ext cx="238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喜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 Box 2"/>
          <p:cNvSpPr/>
          <p:nvPr/>
        </p:nvSpPr>
        <p:spPr>
          <a:xfrm>
            <a:off x="4200480" y="5300640"/>
            <a:ext cx="260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黑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479840" y="2709720"/>
            <a:ext cx="290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Xǐ qu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098960" y="429264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Hēi y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385920" y="1106640"/>
            <a:ext cx="260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duì li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同侧圆角矩形 16"/>
          <p:cNvSpPr/>
          <p:nvPr/>
        </p:nvSpPr>
        <p:spPr>
          <a:xfrm>
            <a:off x="468360" y="7668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直线连接符 21"/>
          <p:cNvSpPr/>
          <p:nvPr/>
        </p:nvSpPr>
        <p:spPr>
          <a:xfrm flipV="1">
            <a:off x="468360" y="134280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5292720" y="1701720"/>
            <a:ext cx="3529080" cy="3516120"/>
            <a:chOff x="5292720" y="1701720"/>
            <a:chExt cx="3529080" cy="3516120"/>
          </a:xfrm>
        </p:grpSpPr>
        <p:grpSp>
          <p:nvGrpSpPr>
            <p:cNvPr id="45" name=""/>
            <p:cNvGrpSpPr/>
            <p:nvPr/>
          </p:nvGrpSpPr>
          <p:grpSpPr>
            <a:xfrm>
              <a:off x="5292720" y="4020480"/>
              <a:ext cx="3456000" cy="360"/>
              <a:chOff x="5292720" y="4020480"/>
              <a:chExt cx="3456000" cy="360"/>
            </a:xfrm>
          </p:grpSpPr>
          <p:sp>
            <p:nvSpPr>
              <p:cNvPr id="46" name="Line 3"/>
              <p:cNvSpPr/>
              <p:nvPr/>
            </p:nvSpPr>
            <p:spPr>
              <a:xfrm>
                <a:off x="5292720" y="4020480"/>
                <a:ext cx="3456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"/>
              <p:cNvSpPr txBox="1"/>
              <p:nvPr/>
            </p:nvSpPr>
            <p:spPr>
              <a:xfrm>
                <a:off x="5292720" y="4020480"/>
                <a:ext cx="345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" name="Group 4"/>
            <p:cNvGrpSpPr/>
            <p:nvPr/>
          </p:nvGrpSpPr>
          <p:grpSpPr>
            <a:xfrm>
              <a:off x="5292720" y="1701720"/>
              <a:ext cx="3529080" cy="3516120"/>
              <a:chOff x="5292720" y="1701720"/>
              <a:chExt cx="3529080" cy="351612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5292720" y="2812680"/>
                <a:ext cx="3456000" cy="360"/>
                <a:chOff x="5292720" y="2812680"/>
                <a:chExt cx="3456000" cy="360"/>
              </a:xfrm>
            </p:grpSpPr>
            <p:sp>
              <p:nvSpPr>
                <p:cNvPr id="50" name="Line 5"/>
                <p:cNvSpPr/>
                <p:nvPr/>
              </p:nvSpPr>
              <p:spPr>
                <a:xfrm>
                  <a:off x="5292720" y="2812680"/>
                  <a:ext cx="345600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1" name=""/>
                <p:cNvSpPr txBox="1"/>
                <p:nvPr/>
              </p:nvSpPr>
              <p:spPr>
                <a:xfrm>
                  <a:off x="5292720" y="2812680"/>
                  <a:ext cx="3456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2" name=""/>
              <p:cNvGrpSpPr/>
              <p:nvPr/>
            </p:nvGrpSpPr>
            <p:grpSpPr>
              <a:xfrm>
                <a:off x="5292720" y="5168880"/>
                <a:ext cx="3456000" cy="360"/>
                <a:chOff x="5292720" y="5168880"/>
                <a:chExt cx="3456000" cy="360"/>
              </a:xfrm>
            </p:grpSpPr>
            <p:sp>
              <p:nvSpPr>
                <p:cNvPr id="53" name="Line 6"/>
                <p:cNvSpPr/>
                <p:nvPr/>
              </p:nvSpPr>
              <p:spPr>
                <a:xfrm>
                  <a:off x="5292720" y="5168880"/>
                  <a:ext cx="345600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4" name=""/>
                <p:cNvSpPr txBox="1"/>
                <p:nvPr/>
              </p:nvSpPr>
              <p:spPr>
                <a:xfrm>
                  <a:off x="5292720" y="5168880"/>
                  <a:ext cx="3456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5292720" y="1725480"/>
                <a:ext cx="3529080" cy="360"/>
                <a:chOff x="5292720" y="1725480"/>
                <a:chExt cx="3529080" cy="360"/>
              </a:xfrm>
            </p:grpSpPr>
            <p:sp>
              <p:nvSpPr>
                <p:cNvPr id="56" name="Line 7"/>
                <p:cNvSpPr/>
                <p:nvPr/>
              </p:nvSpPr>
              <p:spPr>
                <a:xfrm>
                  <a:off x="5292720" y="1725480"/>
                  <a:ext cx="35290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" name=""/>
                <p:cNvSpPr txBox="1"/>
                <p:nvPr/>
              </p:nvSpPr>
              <p:spPr>
                <a:xfrm>
                  <a:off x="5292720" y="1725480"/>
                  <a:ext cx="3529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5307120" y="1713600"/>
                <a:ext cx="360" cy="3504240"/>
                <a:chOff x="5307120" y="1713600"/>
                <a:chExt cx="360" cy="3504240"/>
              </a:xfrm>
            </p:grpSpPr>
            <p:sp>
              <p:nvSpPr>
                <p:cNvPr id="59" name="Line 8"/>
                <p:cNvSpPr/>
                <p:nvPr/>
              </p:nvSpPr>
              <p:spPr>
                <a:xfrm>
                  <a:off x="5307120" y="1713600"/>
                  <a:ext cx="0" cy="35042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" name=""/>
                <p:cNvSpPr txBox="1"/>
                <p:nvPr/>
              </p:nvSpPr>
              <p:spPr>
                <a:xfrm>
                  <a:off x="5307120" y="1713600"/>
                  <a:ext cx="360" cy="350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8778960" y="1701720"/>
                <a:ext cx="360" cy="3504240"/>
                <a:chOff x="8778960" y="1701720"/>
                <a:chExt cx="360" cy="3504240"/>
              </a:xfrm>
            </p:grpSpPr>
            <p:sp>
              <p:nvSpPr>
                <p:cNvPr id="62" name="Line 9"/>
                <p:cNvSpPr/>
                <p:nvPr/>
              </p:nvSpPr>
              <p:spPr>
                <a:xfrm>
                  <a:off x="8778960" y="1701720"/>
                  <a:ext cx="0" cy="35042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" name=""/>
                <p:cNvSpPr txBox="1"/>
                <p:nvPr/>
              </p:nvSpPr>
              <p:spPr>
                <a:xfrm>
                  <a:off x="8778960" y="1701720"/>
                  <a:ext cx="360" cy="350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4" name="Text Box 10"/>
          <p:cNvSpPr/>
          <p:nvPr/>
        </p:nvSpPr>
        <p:spPr>
          <a:xfrm>
            <a:off x="4068720" y="544500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一棵椰树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ie   ie   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1" descr="OOOPIC2_clr_20090402dc3a5129a25ddfb3"/>
          <p:cNvPicPr/>
          <p:nvPr/>
        </p:nvPicPr>
        <p:blipFill>
          <a:blip r:embed="rId1"/>
          <a:srcRect l="0" t="3228" r="0" b="3858"/>
          <a:stretch/>
        </p:blipFill>
        <p:spPr>
          <a:xfrm>
            <a:off x="468360" y="982800"/>
            <a:ext cx="4103640" cy="4725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2"/>
          <p:cNvSpPr/>
          <p:nvPr/>
        </p:nvSpPr>
        <p:spPr>
          <a:xfrm>
            <a:off x="5738760" y="1744560"/>
            <a:ext cx="28083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400" spc="-1" strike="noStrike">
                <a:solidFill>
                  <a:srgbClr val="ff0000"/>
                </a:solidFill>
                <a:latin typeface="Calibri"/>
              </a:rPr>
              <a:t>ie</a:t>
            </a:r>
            <a:endParaRPr b="0" lang="en-US" sz="20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同侧圆角矩形 1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5"/>
          <p:cNvPicPr/>
          <p:nvPr/>
        </p:nvPicPr>
        <p:blipFill>
          <a:blip r:embed="rId1"/>
          <a:stretch/>
        </p:blipFill>
        <p:spPr>
          <a:xfrm>
            <a:off x="252360" y="981000"/>
            <a:ext cx="8783640" cy="5310360"/>
          </a:xfrm>
          <a:prstGeom prst="rect">
            <a:avLst/>
          </a:prstGeom>
          <a:ln w="0">
            <a:noFill/>
          </a:ln>
        </p:spPr>
      </p:pic>
      <p:sp>
        <p:nvSpPr>
          <p:cNvPr id="70" name="WordArt 3"/>
          <p:cNvSpPr txBox="1"/>
          <p:nvPr/>
        </p:nvSpPr>
        <p:spPr>
          <a:xfrm>
            <a:off x="2340000" y="3286080"/>
            <a:ext cx="2305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方正姚体"/>
              </a:rPr>
              <a:t>ie</a:t>
            </a:r>
            <a:endParaRPr b="1" lang="en-US" sz="96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6012000" y="3429000"/>
            <a:ext cx="2087280" cy="22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ln w="0">
                  <a:noFill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方正姚体"/>
              </a:rPr>
              <a:t>ei</a:t>
            </a:r>
            <a:endParaRPr b="0" lang="en-US" sz="9600" spc="-1" strike="noStrike">
              <a:ln w="0">
                <a:noFill/>
              </a:ln>
              <a:solidFill>
                <a:srgbClr val="0033cc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72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矩形 17415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100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100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109440" y="981000"/>
            <a:ext cx="8855280" cy="532944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3"/>
          <p:cNvGrpSpPr/>
          <p:nvPr/>
        </p:nvGrpSpPr>
        <p:grpSpPr>
          <a:xfrm>
            <a:off x="2549160" y="1270080"/>
            <a:ext cx="3075120" cy="1512360"/>
            <a:chOff x="2549160" y="1270080"/>
            <a:chExt cx="3075120" cy="1512360"/>
          </a:xfrm>
        </p:grpSpPr>
        <p:sp>
          <p:nvSpPr>
            <p:cNvPr id="77" name="Text Box 4"/>
            <p:cNvSpPr/>
            <p:nvPr/>
          </p:nvSpPr>
          <p:spPr>
            <a:xfrm>
              <a:off x="2567880" y="1270080"/>
              <a:ext cx="45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3114000" y="1508040"/>
              <a:ext cx="417960" cy="142560"/>
              <a:chOff x="3114000" y="1508040"/>
              <a:chExt cx="417960" cy="142560"/>
            </a:xfrm>
          </p:grpSpPr>
          <p:sp>
            <p:nvSpPr>
              <p:cNvPr id="79" name="Line 5"/>
              <p:cNvSpPr/>
              <p:nvPr/>
            </p:nvSpPr>
            <p:spPr>
              <a:xfrm>
                <a:off x="3114000" y="1508040"/>
                <a:ext cx="41796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"/>
              <p:cNvSpPr txBox="1"/>
              <p:nvPr/>
            </p:nvSpPr>
            <p:spPr>
              <a:xfrm>
                <a:off x="3114000" y="1508040"/>
                <a:ext cx="417960" cy="142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" name="Text Box 6"/>
            <p:cNvSpPr/>
            <p:nvPr/>
          </p:nvSpPr>
          <p:spPr>
            <a:xfrm>
              <a:off x="2549160" y="1650960"/>
              <a:ext cx="356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 Box 7"/>
            <p:cNvSpPr/>
            <p:nvPr/>
          </p:nvSpPr>
          <p:spPr>
            <a:xfrm>
              <a:off x="2567880" y="2031840"/>
              <a:ext cx="45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2973960" y="1889280"/>
              <a:ext cx="418320" cy="360"/>
              <a:chOff x="2973960" y="1889280"/>
              <a:chExt cx="418320" cy="360"/>
            </a:xfrm>
          </p:grpSpPr>
          <p:sp>
            <p:nvSpPr>
              <p:cNvPr id="84" name="Line 8"/>
              <p:cNvSpPr/>
              <p:nvPr/>
            </p:nvSpPr>
            <p:spPr>
              <a:xfrm>
                <a:off x="2973960" y="1889280"/>
                <a:ext cx="41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"/>
              <p:cNvSpPr txBox="1"/>
              <p:nvPr/>
            </p:nvSpPr>
            <p:spPr>
              <a:xfrm>
                <a:off x="2973960" y="1889280"/>
                <a:ext cx="418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2973600" y="2031480"/>
              <a:ext cx="349200" cy="237960"/>
              <a:chOff x="2973600" y="2031480"/>
              <a:chExt cx="349200" cy="237960"/>
            </a:xfrm>
          </p:grpSpPr>
          <p:sp>
            <p:nvSpPr>
              <p:cNvPr id="87" name="Line 9"/>
              <p:cNvSpPr/>
              <p:nvPr/>
            </p:nvSpPr>
            <p:spPr>
              <a:xfrm flipV="1">
                <a:off x="2973960" y="2031480"/>
                <a:ext cx="348840" cy="23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"/>
              <p:cNvSpPr txBox="1"/>
              <p:nvPr/>
            </p:nvSpPr>
            <p:spPr>
              <a:xfrm rot="10800000">
                <a:off x="2973600" y="2031480"/>
                <a:ext cx="34884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" name="Text Box 10"/>
            <p:cNvSpPr/>
            <p:nvPr/>
          </p:nvSpPr>
          <p:spPr>
            <a:xfrm>
              <a:off x="3474360" y="1603440"/>
              <a:ext cx="56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i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4019040" y="1555200"/>
              <a:ext cx="280080" cy="190800"/>
              <a:chOff x="4019040" y="1555200"/>
              <a:chExt cx="280080" cy="190800"/>
            </a:xfrm>
          </p:grpSpPr>
          <p:sp>
            <p:nvSpPr>
              <p:cNvPr id="91" name="Line 11"/>
              <p:cNvSpPr/>
              <p:nvPr/>
            </p:nvSpPr>
            <p:spPr>
              <a:xfrm flipV="1">
                <a:off x="4019400" y="1555200"/>
                <a:ext cx="279720" cy="1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"/>
              <p:cNvSpPr txBox="1"/>
              <p:nvPr/>
            </p:nvSpPr>
            <p:spPr>
              <a:xfrm rot="10800000">
                <a:off x="4019040" y="1555200"/>
                <a:ext cx="279720" cy="190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090320" y="1889280"/>
              <a:ext cx="347400" cy="360"/>
              <a:chOff x="4090320" y="1889280"/>
              <a:chExt cx="347400" cy="360"/>
            </a:xfrm>
          </p:grpSpPr>
          <p:sp>
            <p:nvSpPr>
              <p:cNvPr id="94" name="Line 12"/>
              <p:cNvSpPr/>
              <p:nvPr/>
            </p:nvSpPr>
            <p:spPr>
              <a:xfrm>
                <a:off x="4090320" y="1889280"/>
                <a:ext cx="34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"/>
              <p:cNvSpPr txBox="1"/>
              <p:nvPr/>
            </p:nvSpPr>
            <p:spPr>
              <a:xfrm>
                <a:off x="4090320" y="1889280"/>
                <a:ext cx="347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4019400" y="2031840"/>
              <a:ext cx="348840" cy="190080"/>
              <a:chOff x="4019400" y="2031840"/>
              <a:chExt cx="348840" cy="190080"/>
            </a:xfrm>
          </p:grpSpPr>
          <p:sp>
            <p:nvSpPr>
              <p:cNvPr id="97" name="Line 13"/>
              <p:cNvSpPr/>
              <p:nvPr/>
            </p:nvSpPr>
            <p:spPr>
              <a:xfrm>
                <a:off x="4019400" y="2031840"/>
                <a:ext cx="348840" cy="19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"/>
              <p:cNvSpPr txBox="1"/>
              <p:nvPr/>
            </p:nvSpPr>
            <p:spPr>
              <a:xfrm>
                <a:off x="4019400" y="2031840"/>
                <a:ext cx="348840" cy="190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9" name="Text Box 14"/>
            <p:cNvSpPr/>
            <p:nvPr/>
          </p:nvSpPr>
          <p:spPr>
            <a:xfrm>
              <a:off x="4437720" y="1270080"/>
              <a:ext cx="1186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di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4458240" y="1650960"/>
              <a:ext cx="848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ti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 Box 16"/>
            <p:cNvSpPr/>
            <p:nvPr/>
          </p:nvSpPr>
          <p:spPr>
            <a:xfrm>
              <a:off x="4535280" y="2079000"/>
              <a:ext cx="83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ni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Group 17"/>
          <p:cNvGrpSpPr/>
          <p:nvPr/>
        </p:nvGrpSpPr>
        <p:grpSpPr>
          <a:xfrm>
            <a:off x="2603160" y="3567240"/>
            <a:ext cx="3057480" cy="1513440"/>
            <a:chOff x="2603160" y="3567240"/>
            <a:chExt cx="3057480" cy="1513440"/>
          </a:xfrm>
        </p:grpSpPr>
        <p:sp>
          <p:nvSpPr>
            <p:cNvPr id="103" name="Text Box 18"/>
            <p:cNvSpPr/>
            <p:nvPr/>
          </p:nvSpPr>
          <p:spPr>
            <a:xfrm>
              <a:off x="2604240" y="3567240"/>
              <a:ext cx="424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149280" y="3805560"/>
              <a:ext cx="417960" cy="142920"/>
              <a:chOff x="3149280" y="3805560"/>
              <a:chExt cx="417960" cy="142920"/>
            </a:xfrm>
          </p:grpSpPr>
          <p:sp>
            <p:nvSpPr>
              <p:cNvPr id="105" name="Line 19"/>
              <p:cNvSpPr/>
              <p:nvPr/>
            </p:nvSpPr>
            <p:spPr>
              <a:xfrm>
                <a:off x="3149280" y="3805560"/>
                <a:ext cx="41796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"/>
              <p:cNvSpPr txBox="1"/>
              <p:nvPr/>
            </p:nvSpPr>
            <p:spPr>
              <a:xfrm>
                <a:off x="3149280" y="3805560"/>
                <a:ext cx="4179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" name="Text Box 20"/>
            <p:cNvSpPr/>
            <p:nvPr/>
          </p:nvSpPr>
          <p:spPr>
            <a:xfrm>
              <a:off x="2603160" y="3948480"/>
              <a:ext cx="45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 Box 21"/>
            <p:cNvSpPr/>
            <p:nvPr/>
          </p:nvSpPr>
          <p:spPr>
            <a:xfrm>
              <a:off x="2609640" y="4330080"/>
              <a:ext cx="41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3008880" y="4187160"/>
              <a:ext cx="418320" cy="360"/>
              <a:chOff x="3008880" y="4187160"/>
              <a:chExt cx="418320" cy="360"/>
            </a:xfrm>
          </p:grpSpPr>
          <p:sp>
            <p:nvSpPr>
              <p:cNvPr id="110" name="Line 22"/>
              <p:cNvSpPr/>
              <p:nvPr/>
            </p:nvSpPr>
            <p:spPr>
              <a:xfrm>
                <a:off x="3008880" y="4187160"/>
                <a:ext cx="41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 txBox="1"/>
              <p:nvPr/>
            </p:nvSpPr>
            <p:spPr>
              <a:xfrm>
                <a:off x="3008880" y="4187160"/>
                <a:ext cx="418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3008520" y="4330080"/>
              <a:ext cx="349200" cy="238320"/>
              <a:chOff x="3008520" y="4330080"/>
              <a:chExt cx="349200" cy="238320"/>
            </a:xfrm>
          </p:grpSpPr>
          <p:sp>
            <p:nvSpPr>
              <p:cNvPr id="113" name="Line 23"/>
              <p:cNvSpPr/>
              <p:nvPr/>
            </p:nvSpPr>
            <p:spPr>
              <a:xfrm flipV="1">
                <a:off x="3008880" y="4330080"/>
                <a:ext cx="348840" cy="23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"/>
              <p:cNvSpPr txBox="1"/>
              <p:nvPr/>
            </p:nvSpPr>
            <p:spPr>
              <a:xfrm rot="10800000">
                <a:off x="3008520" y="4330080"/>
                <a:ext cx="348840" cy="238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5" name="Text Box 24"/>
            <p:cNvSpPr/>
            <p:nvPr/>
          </p:nvSpPr>
          <p:spPr>
            <a:xfrm>
              <a:off x="3510360" y="3901320"/>
              <a:ext cx="56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i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4055040" y="3852360"/>
              <a:ext cx="280080" cy="191160"/>
              <a:chOff x="4055040" y="3852360"/>
              <a:chExt cx="280080" cy="191160"/>
            </a:xfrm>
          </p:grpSpPr>
          <p:sp>
            <p:nvSpPr>
              <p:cNvPr id="117" name="Line 25"/>
              <p:cNvSpPr/>
              <p:nvPr/>
            </p:nvSpPr>
            <p:spPr>
              <a:xfrm flipV="1">
                <a:off x="4055040" y="3852360"/>
                <a:ext cx="280080" cy="19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 rot="10800000">
                <a:off x="4055040" y="3852360"/>
                <a:ext cx="280080" cy="191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125960" y="4187160"/>
              <a:ext cx="347400" cy="360"/>
              <a:chOff x="4125960" y="4187160"/>
              <a:chExt cx="347400" cy="360"/>
            </a:xfrm>
          </p:grpSpPr>
          <p:sp>
            <p:nvSpPr>
              <p:cNvPr id="120" name="Line 26"/>
              <p:cNvSpPr/>
              <p:nvPr/>
            </p:nvSpPr>
            <p:spPr>
              <a:xfrm>
                <a:off x="4125960" y="4187160"/>
                <a:ext cx="34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"/>
              <p:cNvSpPr txBox="1"/>
              <p:nvPr/>
            </p:nvSpPr>
            <p:spPr>
              <a:xfrm>
                <a:off x="4125960" y="4187160"/>
                <a:ext cx="347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055040" y="4330080"/>
              <a:ext cx="348840" cy="190080"/>
              <a:chOff x="4055040" y="4330080"/>
              <a:chExt cx="348840" cy="190080"/>
            </a:xfrm>
          </p:grpSpPr>
          <p:sp>
            <p:nvSpPr>
              <p:cNvPr id="123" name="Line 27"/>
              <p:cNvSpPr/>
              <p:nvPr/>
            </p:nvSpPr>
            <p:spPr>
              <a:xfrm>
                <a:off x="4055040" y="4330080"/>
                <a:ext cx="348840" cy="19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4055040" y="4330080"/>
                <a:ext cx="348840" cy="190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5" name="Text Box 28"/>
            <p:cNvSpPr/>
            <p:nvPr/>
          </p:nvSpPr>
          <p:spPr>
            <a:xfrm>
              <a:off x="4473360" y="3567240"/>
              <a:ext cx="118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ji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 Box 29"/>
            <p:cNvSpPr/>
            <p:nvPr/>
          </p:nvSpPr>
          <p:spPr>
            <a:xfrm>
              <a:off x="4500360" y="3948480"/>
              <a:ext cx="83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qi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 Box 30"/>
            <p:cNvSpPr/>
            <p:nvPr/>
          </p:nvSpPr>
          <p:spPr>
            <a:xfrm>
              <a:off x="4577760" y="4377240"/>
              <a:ext cx="794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alibri"/>
                </a:rPr>
                <a:t>xi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同侧圆角矩形 30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s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270080"/>
            <a:ext cx="4105440" cy="3166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6650640" y="1773360"/>
            <a:ext cx="1011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zh-CN" sz="5400" spc="-1" strike="noStrike">
                <a:solidFill>
                  <a:srgbClr val="ff0000"/>
                </a:solidFill>
                <a:latin typeface="Calibri"/>
              </a:rPr>
              <a:t>ié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</a:rPr>
              <a:t>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438000" y="4844880"/>
            <a:ext cx="419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Calibri"/>
              </a:rPr>
              <a:t>x--ié---xié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1946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506920" y="1628640"/>
            <a:ext cx="225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zh-CN" sz="5400" spc="-1" strike="noStrike">
                <a:solidFill>
                  <a:srgbClr val="ff0000"/>
                </a:solidFill>
                <a:latin typeface="Calibri"/>
              </a:rPr>
              <a:t>ié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</a:rPr>
              <a:t>蝴 蝶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485160" y="4772160"/>
            <a:ext cx="435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Calibri"/>
              </a:rPr>
              <a:t>d--ié---dié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" descr="hudie2_240"/>
          <p:cNvPicPr/>
          <p:nvPr/>
        </p:nvPicPr>
        <p:blipFill>
          <a:blip r:embed="rId1"/>
          <a:stretch/>
        </p:blipFill>
        <p:spPr>
          <a:xfrm>
            <a:off x="1403280" y="1054080"/>
            <a:ext cx="3241800" cy="3384720"/>
          </a:xfrm>
          <a:prstGeom prst="rect">
            <a:avLst/>
          </a:prstGeom>
          <a:ln w="0">
            <a:noFill/>
          </a:ln>
        </p:spPr>
      </p:pic>
      <p:sp>
        <p:nvSpPr>
          <p:cNvPr id="139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6189840" y="4986360"/>
            <a:ext cx="117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Calibri"/>
              </a:rPr>
              <a:t>y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447a7fcf52664"/>
          <p:cNvPicPr/>
          <p:nvPr/>
        </p:nvPicPr>
        <p:blipFill>
          <a:blip r:embed="rId1"/>
          <a:stretch/>
        </p:blipFill>
        <p:spPr>
          <a:xfrm>
            <a:off x="1690560" y="2060640"/>
            <a:ext cx="3492720" cy="29718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719280" y="534672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ahoma"/>
              </a:rPr>
              <a:t>整体认读音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348240" y="2897280"/>
            <a:ext cx="1008360" cy="360"/>
            <a:chOff x="6348240" y="2897280"/>
            <a:chExt cx="1008360" cy="360"/>
          </a:xfrm>
        </p:grpSpPr>
        <p:sp>
          <p:nvSpPr>
            <p:cNvPr id="145" name="Line 5"/>
            <p:cNvSpPr/>
            <p:nvPr/>
          </p:nvSpPr>
          <p:spPr>
            <a:xfrm>
              <a:off x="6348240" y="2897280"/>
              <a:ext cx="100836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6348240" y="2897280"/>
              <a:ext cx="100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Text Box 6"/>
          <p:cNvSpPr/>
          <p:nvPr/>
        </p:nvSpPr>
        <p:spPr>
          <a:xfrm>
            <a:off x="7500960" y="2322360"/>
            <a:ext cx="18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yè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叶子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oup 7"/>
          <p:cNvGrpSpPr/>
          <p:nvPr/>
        </p:nvGrpSpPr>
        <p:grpSpPr>
          <a:xfrm>
            <a:off x="5555880" y="2754360"/>
            <a:ext cx="648000" cy="792000"/>
            <a:chOff x="5555880" y="2754360"/>
            <a:chExt cx="648000" cy="792000"/>
          </a:xfrm>
        </p:grpSpPr>
        <p:grpSp>
          <p:nvGrpSpPr>
            <p:cNvPr id="149" name=""/>
            <p:cNvGrpSpPr/>
            <p:nvPr/>
          </p:nvGrpSpPr>
          <p:grpSpPr>
            <a:xfrm>
              <a:off x="5556240" y="2842200"/>
              <a:ext cx="647640" cy="615240"/>
              <a:chOff x="5556240" y="2842200"/>
              <a:chExt cx="647640" cy="615240"/>
            </a:xfrm>
          </p:grpSpPr>
          <p:sp>
            <p:nvSpPr>
              <p:cNvPr id="150" name="Line 8"/>
              <p:cNvSpPr/>
              <p:nvPr/>
            </p:nvSpPr>
            <p:spPr>
              <a:xfrm>
                <a:off x="5556240" y="2842200"/>
                <a:ext cx="647640" cy="615240"/>
              </a:xfrm>
              <a:prstGeom prst="line">
                <a:avLst/>
              </a:prstGeom>
              <a:ln w="136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"/>
              <p:cNvSpPr txBox="1"/>
              <p:nvPr/>
            </p:nvSpPr>
            <p:spPr>
              <a:xfrm>
                <a:off x="5556240" y="2842200"/>
                <a:ext cx="647640" cy="615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5555880" y="2754360"/>
              <a:ext cx="606960" cy="792000"/>
              <a:chOff x="5555880" y="2754360"/>
              <a:chExt cx="606960" cy="792000"/>
            </a:xfrm>
          </p:grpSpPr>
          <p:sp>
            <p:nvSpPr>
              <p:cNvPr id="153" name="Line 9"/>
              <p:cNvSpPr/>
              <p:nvPr/>
            </p:nvSpPr>
            <p:spPr>
              <a:xfrm flipH="1">
                <a:off x="5555880" y="2754360"/>
                <a:ext cx="606600" cy="792000"/>
              </a:xfrm>
              <a:prstGeom prst="line">
                <a:avLst/>
              </a:prstGeom>
              <a:ln w="136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"/>
              <p:cNvSpPr txBox="1"/>
              <p:nvPr/>
            </p:nvSpPr>
            <p:spPr>
              <a:xfrm>
                <a:off x="5556240" y="2754360"/>
                <a:ext cx="606600" cy="79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55" name="Text Box 10"/>
          <p:cNvSpPr/>
          <p:nvPr/>
        </p:nvSpPr>
        <p:spPr>
          <a:xfrm>
            <a:off x="5508720" y="2637000"/>
            <a:ext cx="75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iè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同侧圆角矩形 10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OOOPIC2_clr_20090402dc3a5129a25ddfb3"/>
          <p:cNvPicPr/>
          <p:nvPr/>
        </p:nvPicPr>
        <p:blipFill>
          <a:blip r:embed="rId1"/>
          <a:srcRect l="0" t="1076" r="0" b="4934"/>
          <a:stretch/>
        </p:blipFill>
        <p:spPr>
          <a:xfrm>
            <a:off x="828720" y="981000"/>
            <a:ext cx="3448080" cy="3645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1044720" y="501336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Calibri"/>
              </a:rPr>
              <a:t>yē    z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107_9581"/>
          <p:cNvPicPr/>
          <p:nvPr/>
        </p:nvPicPr>
        <p:blipFill>
          <a:blip r:embed="rId2"/>
          <a:stretch/>
        </p:blipFill>
        <p:spPr>
          <a:xfrm>
            <a:off x="5148360" y="981000"/>
            <a:ext cx="3529080" cy="36482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5796000" y="4870440"/>
            <a:ext cx="273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Calibri"/>
              </a:rPr>
              <a:t>yé    ye</a:t>
            </a:r>
            <a:r>
              <a:rPr b="0" lang="zh-CN" sz="6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5364000" y="1989000"/>
            <a:ext cx="3529080" cy="3446280"/>
            <a:chOff x="5364000" y="1989000"/>
            <a:chExt cx="3529080" cy="3446280"/>
          </a:xfrm>
        </p:grpSpPr>
        <p:grpSp>
          <p:nvGrpSpPr>
            <p:cNvPr id="163" name=""/>
            <p:cNvGrpSpPr/>
            <p:nvPr/>
          </p:nvGrpSpPr>
          <p:grpSpPr>
            <a:xfrm>
              <a:off x="5364000" y="4261680"/>
              <a:ext cx="3456000" cy="360"/>
              <a:chOff x="5364000" y="4261680"/>
              <a:chExt cx="3456000" cy="360"/>
            </a:xfrm>
          </p:grpSpPr>
          <p:sp>
            <p:nvSpPr>
              <p:cNvPr id="164" name="Line 3"/>
              <p:cNvSpPr/>
              <p:nvPr/>
            </p:nvSpPr>
            <p:spPr>
              <a:xfrm>
                <a:off x="5364000" y="4261680"/>
                <a:ext cx="3456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5364000" y="4261680"/>
                <a:ext cx="345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6" name="Group 4"/>
            <p:cNvGrpSpPr/>
            <p:nvPr/>
          </p:nvGrpSpPr>
          <p:grpSpPr>
            <a:xfrm>
              <a:off x="5364000" y="1989000"/>
              <a:ext cx="3529080" cy="3446280"/>
              <a:chOff x="5364000" y="1989000"/>
              <a:chExt cx="3529080" cy="344628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5364000" y="3077640"/>
                <a:ext cx="3456000" cy="360"/>
                <a:chOff x="5364000" y="3077640"/>
                <a:chExt cx="3456000" cy="360"/>
              </a:xfrm>
            </p:grpSpPr>
            <p:sp>
              <p:nvSpPr>
                <p:cNvPr id="168" name="Line 5"/>
                <p:cNvSpPr/>
                <p:nvPr/>
              </p:nvSpPr>
              <p:spPr>
                <a:xfrm>
                  <a:off x="5364000" y="3077640"/>
                  <a:ext cx="345600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9" name=""/>
                <p:cNvSpPr txBox="1"/>
                <p:nvPr/>
              </p:nvSpPr>
              <p:spPr>
                <a:xfrm>
                  <a:off x="5364000" y="3077640"/>
                  <a:ext cx="3456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5364000" y="5387400"/>
                <a:ext cx="3456000" cy="360"/>
                <a:chOff x="5364000" y="5387400"/>
                <a:chExt cx="3456000" cy="360"/>
              </a:xfrm>
            </p:grpSpPr>
            <p:sp>
              <p:nvSpPr>
                <p:cNvPr id="171" name="Line 6"/>
                <p:cNvSpPr/>
                <p:nvPr/>
              </p:nvSpPr>
              <p:spPr>
                <a:xfrm>
                  <a:off x="5364000" y="5387400"/>
                  <a:ext cx="345600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"/>
                <p:cNvSpPr txBox="1"/>
                <p:nvPr/>
              </p:nvSpPr>
              <p:spPr>
                <a:xfrm>
                  <a:off x="5364000" y="5387400"/>
                  <a:ext cx="3456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364000" y="2012040"/>
                <a:ext cx="3529080" cy="360"/>
                <a:chOff x="5364000" y="2012040"/>
                <a:chExt cx="3529080" cy="360"/>
              </a:xfrm>
            </p:grpSpPr>
            <p:sp>
              <p:nvSpPr>
                <p:cNvPr id="174" name="Line 7"/>
                <p:cNvSpPr/>
                <p:nvPr/>
              </p:nvSpPr>
              <p:spPr>
                <a:xfrm>
                  <a:off x="5364000" y="2012040"/>
                  <a:ext cx="35290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"/>
                <p:cNvSpPr txBox="1"/>
                <p:nvPr/>
              </p:nvSpPr>
              <p:spPr>
                <a:xfrm>
                  <a:off x="5364000" y="2012040"/>
                  <a:ext cx="3529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5378400" y="2000520"/>
                <a:ext cx="360" cy="3434760"/>
                <a:chOff x="5378400" y="2000520"/>
                <a:chExt cx="360" cy="3434760"/>
              </a:xfrm>
            </p:grpSpPr>
            <p:sp>
              <p:nvSpPr>
                <p:cNvPr id="177" name="Line 8"/>
                <p:cNvSpPr/>
                <p:nvPr/>
              </p:nvSpPr>
              <p:spPr>
                <a:xfrm>
                  <a:off x="5378400" y="2000520"/>
                  <a:ext cx="0" cy="34347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8" name=""/>
                <p:cNvSpPr txBox="1"/>
                <p:nvPr/>
              </p:nvSpPr>
              <p:spPr>
                <a:xfrm>
                  <a:off x="5378400" y="2000520"/>
                  <a:ext cx="360" cy="343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8850240" y="1989000"/>
                <a:ext cx="360" cy="3434760"/>
                <a:chOff x="8850240" y="1989000"/>
                <a:chExt cx="360" cy="3434760"/>
              </a:xfrm>
            </p:grpSpPr>
            <p:sp>
              <p:nvSpPr>
                <p:cNvPr id="180" name="Line 9"/>
                <p:cNvSpPr/>
                <p:nvPr/>
              </p:nvSpPr>
              <p:spPr>
                <a:xfrm>
                  <a:off x="8850240" y="1989000"/>
                  <a:ext cx="0" cy="34347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1" name=""/>
                <p:cNvSpPr txBox="1"/>
                <p:nvPr/>
              </p:nvSpPr>
              <p:spPr>
                <a:xfrm>
                  <a:off x="8850240" y="1989000"/>
                  <a:ext cx="360" cy="343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82" name="Text Box 10"/>
          <p:cNvSpPr/>
          <p:nvPr/>
        </p:nvSpPr>
        <p:spPr>
          <a:xfrm>
            <a:off x="5724360" y="1968480"/>
            <a:ext cx="32418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400" spc="-1" strike="noStrike">
                <a:solidFill>
                  <a:srgbClr val="ff0000"/>
                </a:solidFill>
                <a:latin typeface="Calibri"/>
              </a:rPr>
              <a:t>üe</a:t>
            </a:r>
            <a:endParaRPr b="0" lang="en-US" sz="20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3348000" y="5589720"/>
            <a:ext cx="60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一轮弯月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üe    üe   ü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2" descr="2823756966362753763"/>
          <p:cNvPicPr/>
          <p:nvPr/>
        </p:nvPicPr>
        <p:blipFill>
          <a:blip r:embed="rId1"/>
          <a:stretch/>
        </p:blipFill>
        <p:spPr>
          <a:xfrm>
            <a:off x="1187280" y="1984320"/>
            <a:ext cx="3632400" cy="3594240"/>
          </a:xfrm>
          <a:prstGeom prst="rect">
            <a:avLst/>
          </a:prstGeom>
          <a:ln w="0">
            <a:noFill/>
          </a:ln>
        </p:spPr>
      </p:pic>
      <p:sp>
        <p:nvSpPr>
          <p:cNvPr id="185" name="同侧圆角矩形 1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48:00Z</dcterms:created>
  <dc:creator/>
  <dc:description/>
  <dc:language>en-US</dc:language>
  <cp:lastModifiedBy>啊啊</cp:lastModifiedBy>
  <dcterms:modified xsi:type="dcterms:W3CDTF">2017-06-24T15:04:02Z</dcterms:modified>
  <cp:revision>6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